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587-5D41-4D45-AD35-300DE8DA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4B5-5E05-4126-96D7-E4E50348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B07C-DEB2-48D1-BFE8-B5EF0C54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65F-3AF6-4C1B-875F-86FA2C02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22AE-0240-41E7-81EF-7D13E7A2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A779-3E8B-4B25-8720-62E83A07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0086-1A13-4040-B269-B06A7476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BDCF-8280-4F40-98EB-50B87562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BFAB-4C32-486D-84D8-C7A58727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84F2-6043-4E41-A439-C68A2F6F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6F90-8309-4715-85E2-A7A93C5A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205-51CF-4B78-AD7D-7FCCD438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B5F8-C32B-42E2-9964-C950302E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34D2-447B-473B-A0B7-E9464ED4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B81D-3C25-4293-8B59-632B58F2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4654-F2F9-47A3-9DDF-3B879F49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DA36-8086-43E0-8A96-41B089B9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87A-EBF5-4F07-AC9A-21BC8D96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971-45BC-4097-A238-88F2F374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44B-9A2C-4FE1-A12B-25F8DFF0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0BE-49AB-420D-A1D8-D510C033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983-F908-4D6F-BA39-CFE6E604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F83-E27D-4B85-9894-AC963D6D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4AF-9997-4364-8F00-96FCCBAA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22EB-E547-4E1F-A74B-4E1EE8F85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99F2-B0D1-4323-BF16-36E21D27C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enginecompany1.files.wordpress.com/2009/03/1233850636_wallpaper-brain.jpg&amp;imgrefurl=http://enginecompany1.wordpress.com/&amp;usg=__FisLqeJAqR2AcXDoVRKvoksHVZs=&amp;h=768&amp;w=1024&amp;sz=50&amp;hl=en&amp;start=9&amp;um=1&amp;tbnid=PkiyfXuSo4dVIM:&amp;tbnh=113&amp;tbnw=150&amp;prev=/images%3Fq%3Dbrain%26hl%3Den%26rlz%3D1T4ADBR_enUS275US276%26sa%3DN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irginiagrains.com/cg_wheat_closeup.jpg&amp;imgrefurl=http://www.virginiagrains.com/Wheat%2520Information.htm&amp;usg=__83JnuLfJb1bc3l0YnGyVi1I54M4=&amp;h=450&amp;w=600&amp;sz=245&amp;hl=en&amp;start=1&amp;um=1&amp;tbnid=x468T1nXFjs1LM:&amp;tbnh=101&amp;tbnw=135&amp;prev=/images%3Fq%3Dwheat%26hl%3Den%26rlz%3D1T4ADBR_enUS275US276%26um%3D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Mrs. Vollmarardy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98560" y="145584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of Nutr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438280" y="12952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194720" y="16765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567760" y="16765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04520" y="1671480"/>
            <a:ext cx="13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tam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166440" y="6396120"/>
            <a:ext cx="298800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inal Mrs. Vollmara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Question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626480" y="2362320"/>
            <a:ext cx="650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the 4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at-Soluble Vitami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Answer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988360" y="2362320"/>
            <a:ext cx="31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, D, E, K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Question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026360" y="2133720"/>
            <a:ext cx="715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How many calories a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n one gram of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arbohydrates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Answer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666240" y="236232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ou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Question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25400" y="251460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one “refined” carb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Answer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143000" y="1981080"/>
            <a:ext cx="737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hite rice, white pasta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ake, cookies, cracker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Etc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Question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600200" y="1981080"/>
            <a:ext cx="6248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 or Fals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arbohydrates should make up the majority of your caloric intake?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Answer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806280" y="212400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Question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43000" y="2133720"/>
            <a:ext cx="7086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two examples of complex carbohydrates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Answer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3880" y="1828800"/>
            <a:ext cx="6629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whole grain flour, brown rice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whole grain bread or pasta, sweet potato etc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Question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47760" y="2743200"/>
            <a:ext cx="852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hat is the primary sourc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f fuel for the brain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http://tbn2.google.com/images?q=tbn:PkiyfXuSo4dVIM:http://enginecompany1.files.wordpress.com/2009/03/1233850636_wallpaper-bra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4724280"/>
            <a:ext cx="21240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Question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523880" y="213372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 or Fals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Eating too many carbohydr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leads to diabetes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Answer from Carbo’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657600" y="23623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als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Question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49440" y="2209680"/>
            <a:ext cx="787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How many calories are i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ne gram of fa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Answer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818520" y="228600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in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Question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37520" y="1981080"/>
            <a:ext cx="8956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ich of the following fatty-aci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s generally solid at room temperatur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. Short-ch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B. Satur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. Monounsatur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. Polyunsatura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Answer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611440" y="2362320"/>
            <a:ext cx="39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. Saturate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Question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648360" y="2209680"/>
            <a:ext cx="783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almon is an exampl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f a food that supplie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uch of what type of fa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5" descr="http://tbn3.google.com/images?q=tbn:F6Bj51LpN-EQTM:http://anirishgirlcooks.files.wordpress.com/2008/11/fish_-_cartoon_01.gif"/>
          <p:cNvPicPr/>
          <p:nvPr/>
        </p:nvPicPr>
        <p:blipFill>
          <a:blip r:embed="rId1"/>
          <a:stretch/>
        </p:blipFill>
        <p:spPr>
          <a:xfrm>
            <a:off x="3352680" y="4952880"/>
            <a:ext cx="2301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Answer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309680" y="2362320"/>
            <a:ext cx="661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mega-3 Fatty Acid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Question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99320" y="2133720"/>
            <a:ext cx="67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 or Fals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at’s are essential fo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your well-being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Answer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729960" y="236232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Answer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157480" y="2438280"/>
            <a:ext cx="467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arbohydr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Question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327320" y="2209680"/>
            <a:ext cx="631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one exampl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f a “bad” fat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Answer from Fat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177200" y="2133720"/>
            <a:ext cx="684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otato chips, butter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hole fat dairy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imal products, etc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5" descr="http://tbn1.google.com/images?q=tbn:vTs9yelrhODseM:http://www.ces.ncsu.edu/depts/ent/notes/forage/rifanote04/potato_chips.jpg"/>
          <p:cNvPicPr/>
          <p:nvPr/>
        </p:nvPicPr>
        <p:blipFill>
          <a:blip r:embed="rId1"/>
          <a:stretch/>
        </p:blipFill>
        <p:spPr>
          <a:xfrm>
            <a:off x="7543800" y="3657600"/>
            <a:ext cx="129528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Question from Protei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98320" y="2209680"/>
            <a:ext cx="768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 or False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Eating mor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rotein will “bulk” you u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http://tbn2.google.com/images?q=tbn:FzyWtMtQRrENaM:http://www.lexcaliburs.com/Images/Weight%2520lifter.jpg"/>
          <p:cNvPicPr/>
          <p:nvPr/>
        </p:nvPicPr>
        <p:blipFill>
          <a:blip r:embed="rId1"/>
          <a:stretch/>
        </p:blipFill>
        <p:spPr>
          <a:xfrm>
            <a:off x="3809880" y="4818240"/>
            <a:ext cx="14479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Answer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515400" y="22860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als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$200 Question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57240" y="2286000"/>
            <a:ext cx="55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one dietar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ource of protei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Answer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96920" y="2057400"/>
            <a:ext cx="890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hicken, fish, steaks, chees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ut butters, etc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Question from Protei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47760" y="2286000"/>
            <a:ext cx="856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How many essential amino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cids are there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Answer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3742560" y="236232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in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Question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11280" y="2133720"/>
            <a:ext cx="802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 or False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Eating a high protein diet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uch as “The Atkins Diet”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s a healthy way to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lose weight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Answer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515400" y="228600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als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$200 Question from Role of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26960" y="1981080"/>
            <a:ext cx="8448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ich of the following are exampl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f carbohydrate-rich foods?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Butter and Corn Oi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Beef and P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eat and Lenti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Bacon and Eg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Question from Prote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330920" y="2209680"/>
            <a:ext cx="711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 or False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omplete proteins ar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primarily found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n animal sources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Answer from Protei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729960" y="228600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Question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73840" y="2286000"/>
            <a:ext cx="80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one dietary sourc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f Vitamin-C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100 Answer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83240" y="1981080"/>
            <a:ext cx="707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ranges, red peppers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yellow peppers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sparagus, etc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Question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606680" y="2133720"/>
            <a:ext cx="6314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Most of the body’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Vitamin-A is stored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n th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Answer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742560" y="2362320"/>
            <a:ext cx="166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Liv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Question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859040" y="2209680"/>
            <a:ext cx="5933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primary role of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B-Complex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vitamins is to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Answer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329120" y="2438280"/>
            <a:ext cx="687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Act as Co-Enzym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Question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43560" y="2438280"/>
            <a:ext cx="871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hat are the two categori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at vitamins fall int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Answer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540800" y="2590920"/>
            <a:ext cx="581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ater Soluble an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Fat Solub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200 Answer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704960" y="2438280"/>
            <a:ext cx="56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heat and Lenti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http://tbn0.google.com/images?q=tbn:x468T1nXFjs1LM:http://www.virginiagrains.com/cg_wheat_close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886200"/>
            <a:ext cx="2036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Question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103400" y="2438280"/>
            <a:ext cx="726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Name a dietary sourc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f Vitamin 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500 Answer from Vitamins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61880" y="2362320"/>
            <a:ext cx="8638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wheat germ, peanut butter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sunflower oil, almonds, etc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Final Jeopardy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648360" y="1828800"/>
            <a:ext cx="783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Describe three different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ips you could begi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o follow today in order t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improve your diet.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Final Jeopardy Answer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45360" y="2209680"/>
            <a:ext cx="901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nswers may include: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eat more veggies/fruits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choose whole grains choos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low-fat dairy products, e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reakfast, etc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Question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80880" y="236232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ich of the following nutrients 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the most nutrient dens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. Carbohydr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B. F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. Prote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. Vitam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300 Answer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440160" y="2286000"/>
            <a:ext cx="20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B. F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Question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178640" y="2209680"/>
            <a:ext cx="71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building bloc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of proteins are called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  <a:ea typeface="Arial"/>
              </a:rPr>
              <a:t>$400 Answer from Role of Nutrition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668680" y="2209680"/>
            <a:ext cx="399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Amino Acid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DeBates, Debra</cp:lastModifiedBy>
  <dcterms:modified xsi:type="dcterms:W3CDTF">2009-09-14T21:33:04Z</dcterms:modified>
  <cp:revision>28</cp:revision>
  <dc:subject/>
  <dc:title>Jeopardy</dc:title>
</cp:coreProperties>
</file>